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4F2-3B7E-4BCF-A8C0-4704B85C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221-F8AB-4B27-AD31-66A3C6F0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B3F-C7E6-40FB-8054-83DC8CC2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2E5-2E68-4862-9783-EE9C6981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49F1-9975-4CCD-BEB5-D57C8516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AD57-B437-42B2-8E8A-3666ED4E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149F-732E-4942-B657-CEC0115D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7D20-E660-4177-8E1E-DFFF393D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2DB5-504A-42F2-AE45-0BE7D1D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3866-60F1-44FF-BE71-0E1D333C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F5BF-838C-4950-96FC-05FC0B1B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0DC-3DB0-47B8-928A-EE1F805C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1769-820D-4897-A4B7-89881C7C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D805-6DBE-43BC-AD90-2888449E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3971-EE39-4DC9-B5D8-BA099732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0C27-64D4-41C6-9683-B88FDDF3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0F55-B061-43C4-8D02-C901AA9C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E01-32FC-401D-A367-374A6814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51B-E1D7-43C3-80FF-C9AF6A8F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AFB-FA52-43B2-A5DF-E7294695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3F5-2574-453E-B059-2DB925C2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A1C-F553-4047-A1B8-A2E7536F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43F-E865-404D-AB4F-AC9614BB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31C-A0DC-493F-BED6-973C128B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C141-A234-4680-A3BB-05F49BA28B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1717-7265-456C-AEC4-526B4AA4D5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afael Leónidas Trujillo Molin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he Dictator of the Dominican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Trujillo"/>
          <p:cNvPicPr/>
          <p:nvPr/>
        </p:nvPicPr>
        <p:blipFill>
          <a:blip r:embed="rId1"/>
          <a:stretch/>
        </p:blipFill>
        <p:spPr>
          <a:xfrm>
            <a:off x="3733920" y="4038480"/>
            <a:ext cx="1942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31376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rabal Sisters are martyrs in their coun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so influential that the author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lia Álvarez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rote a novel about their l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graphic"/>
          <p:cNvPicPr/>
          <p:nvPr/>
        </p:nvPicPr>
        <p:blipFill>
          <a:blip r:embed="rId1"/>
          <a:stretch/>
        </p:blipFill>
        <p:spPr>
          <a:xfrm>
            <a:off x="6337440" y="3276720"/>
            <a:ext cx="2120760" cy="3124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2036880" cy="3105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3429000" y="3381480"/>
            <a:ext cx="18763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76320"/>
            <a:ext cx="7313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assinating Trujillo took a long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entral Intelligence Agency (CIA), in the USA helped the Dominicans plan the death of Trujillo in 1961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apons had to come from outside the country because they could not count on the weapons of the Dominican Milit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IA started sending weapons to Dominican Republic in 196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4800600" y="4495680"/>
            <a:ext cx="3733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7012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rn on October 24, 1891 in San Cristobal, Dominican Re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parents were poor and of mixed rac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european/black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Map of Dominican Republic"/>
          <p:cNvPicPr/>
          <p:nvPr/>
        </p:nvPicPr>
        <p:blipFill>
          <a:blip r:embed="rId1"/>
          <a:stretch/>
        </p:blipFill>
        <p:spPr>
          <a:xfrm>
            <a:off x="2874960" y="2211480"/>
            <a:ext cx="393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69800" y="99072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27, he joins the National Pol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was trained by the US military when they occupied the Dominican Republ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ly rose in ranks as an Officer and at this time, he met many influential people and created a chain of all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1919 and 1925, he rose from Lieutenant to Commanding Colonel of the National Pol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99072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jillo was the head of the Military for Horacio Vásquez, who was President at th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30, Trujillo along with the US government got rid of Vásqu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is revolution, Trujillo became Presid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his inauguration, the Congress proclaimed the “Age of Trujillo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70160" y="762120"/>
            <a:ext cx="724032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jillo was President from 1930 until 1938 and from 1942 until 1952.  He was also Minister of Foreign Relations from 1953 to 196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n when he was not the President nor the Minister of Foreign Relations, he was the Dictator of the Dominican Republi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jillo’s flag during his presiden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Flag of the Generalissime"/>
          <p:cNvPicPr/>
          <p:nvPr/>
        </p:nvPicPr>
        <p:blipFill>
          <a:blip r:embed="rId1"/>
          <a:stretch/>
        </p:blipFill>
        <p:spPr>
          <a:xfrm>
            <a:off x="3357720" y="3200400"/>
            <a:ext cx="3195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363760" y="230040"/>
            <a:ext cx="6703920" cy="63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en he was President, Trujillo the political party “El Partido Dominicano” that controlled the politics of the Dominican Republic for three decades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uring the Age of Trujillo, the Dominican economy had the most stability, however the citizens had no political freedo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ll Dominicans had to have a Photograph of Trujillo in their homes and had to include him in their prayer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trujillo3"/>
          <p:cNvPicPr/>
          <p:nvPr/>
        </p:nvPicPr>
        <p:blipFill>
          <a:blip r:embed="rId1"/>
          <a:stretch/>
        </p:blipFill>
        <p:spPr>
          <a:xfrm>
            <a:off x="0" y="0"/>
            <a:ext cx="24084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18960" y="1080"/>
            <a:ext cx="731340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used his position in the military to obtain and maintain his pow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used the “Policía Secreta” as spies in the Dominican Republic and many other countri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government of Haiti found out that they were being spied on by Trujillo, the Haitians killed the sp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taliation, Trujillo murdered 20,000 Haitians en 193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76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ere many citizens that were against the atrocities of Truji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rabal Sisters, better known as “Las mariposas” (the butterflies), were three activists that were against Trujillo’s dictatorship. They were four sisters from Ojo de Agua, Dominican Re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fought against the governments injustices by informing the public about what was really happening in the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6" descr="picture/image_Patricia_Marie_Minerva_Mirabal_sisters"/>
          <p:cNvPicPr/>
          <p:nvPr/>
        </p:nvPicPr>
        <p:blipFill>
          <a:blip r:embed="rId1"/>
          <a:stretch/>
        </p:blipFill>
        <p:spPr>
          <a:xfrm>
            <a:off x="3200400" y="47340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75960"/>
            <a:ext cx="80769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rabal sisters were some of the most influential revolutionists during Trujillo’s Regi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had them murd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isters were part of an underground movement against Trujillo’s govern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er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ria Tere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Patria%20SMALLER"/>
          <p:cNvPicPr/>
          <p:nvPr/>
        </p:nvPicPr>
        <p:blipFill>
          <a:blip r:embed="rId1"/>
          <a:stretch/>
        </p:blipFill>
        <p:spPr>
          <a:xfrm>
            <a:off x="990720" y="2971800"/>
            <a:ext cx="2012760" cy="259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inerva%20SMALLER"/>
          <p:cNvPicPr/>
          <p:nvPr/>
        </p:nvPicPr>
        <p:blipFill>
          <a:blip r:embed="rId2"/>
          <a:stretch/>
        </p:blipFill>
        <p:spPr>
          <a:xfrm>
            <a:off x="3903840" y="2971800"/>
            <a:ext cx="1963440" cy="252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3"/>
          <a:stretch/>
        </p:blipFill>
        <p:spPr>
          <a:xfrm>
            <a:off x="6532560" y="2971800"/>
            <a:ext cx="1544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6:32:27Z</dcterms:created>
  <dc:creator>Jennifer Dawson</dc:creator>
  <dc:description/>
  <dc:language>en-US</dc:language>
  <cp:lastModifiedBy>Helen Zumaeta</cp:lastModifiedBy>
  <cp:lastPrinted>2014-02-24T18:38:47Z</cp:lastPrinted>
  <dcterms:modified xsi:type="dcterms:W3CDTF">2014-02-24T19:06:33Z</dcterms:modified>
  <cp:revision>18</cp:revision>
  <dc:subject/>
  <dc:title>Rafael Trujillo</dc:title>
</cp:coreProperties>
</file>